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6FE-84D6-4434-8563-53C2E902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80A-D90B-4D51-8C0E-D838F47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803-BADE-4A26-9DD0-0D010E52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A9E-C85C-4D8D-ACEF-7B72B197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4C0-7483-40E2-A625-809603AE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2D6-D17C-4E7A-A277-18AA6979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C025-7B3B-491B-AD48-FF69716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085-15DD-4456-B60F-C7524E85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D62B-123D-4694-A9D8-7080388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3C5F-2416-48B2-8113-C8E1F33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83F4-B853-4BB7-A515-5D1C340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419-DCB2-4BE2-A3DA-69C00DE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2366-B404-4AA1-99CC-DCF85A2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942D-A590-4B7E-8361-B048561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9D4-CDC0-43C8-8C67-820D565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5D5A-510D-40F0-9F53-1BCCE8A8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29CA-77EA-4719-B245-3FDAC6F9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745-3901-4DE6-B5EB-48D8088E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D1B-2AB9-478E-97B3-1B339794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84E-EFD5-4694-8C4F-133EB78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F6A-5AA9-47A1-AE79-687B4421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D0A-0A22-4FE0-A4C9-47E1782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D10-658F-4138-8C7E-110EBD8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31E-CFA3-4E5B-810E-F1705AF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5F6-3A66-415C-A56E-E124CE5E4FA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411-B23A-40FA-BC77-EC8CEB118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EE43-D539-4030-899B-0CAFB42B485C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664-401A-4269-874A-EE368E02BC3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F1A-034B-47C6-8C48-F0E34759A2D7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D30-A1DA-462B-A2F2-AA0B76D0EE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siness Presentation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onomic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3-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038480" y="1143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r Company Log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4290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r Company Slog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16E-1D4F-4FA1-8B7B-7DD2E41C51A0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F08-64BC-41F2-A591-1889BF70689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752480" y="1981080"/>
            <a:ext cx="45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nu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de of Ethic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siness Card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pons/ Rebat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E65E-5ECC-486A-B020-7B6C66CCACD2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B07-A635-4B78-993C-78DA43EBFC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ear statement of your company’s long-term mission.  Try to use words that will help direct the growth of your company, but be as concise as possibl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5693-9687-48B7-8A76-208445FB5BE1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6A44-53F9-4B5F-8FBF-4457AC09E0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CEO and key management by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previous accomplishments to show these are people with a record of su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number of years of experience in this fie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68C-C793-4FF3-916E-34BAC3652C72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EF5-D4F1-4194-B33B-B69261667E7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rketing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e Your Advertising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(You only have to create one!)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. Audio/Vis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. Print Cho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0671-8A59-459E-810B-3E82F0B18553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2E74-F776-46CE-BAE3-675E45818AE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siness Concep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key technology, concept or strategy on which your business is ba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(Share Prototype Here!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054-6E76-4ACE-9445-776F09CFE81B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34C4-E7A9-4140-9E34-843254DAF3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line your company’s competitive advant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C08-35E3-4AF7-B575-D028214C4EAE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601-0B0E-494F-BB0B-03F1E9AAB3A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oals &amp; 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ve-year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specific measurable objectiv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market share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revenue/profitability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2F4-A894-4825-BF73-DF2272E1F507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4A76-AF78-49C9-A742-09D7529584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ancial Pl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cing Assumptions (Product, Labor, Fees, Taxe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your Comparative Shopping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3481-6389-45CA-AE75-FF50D9B9EC2C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C26-D42B-42CB-9438-561B85CD79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ource Requir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ne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ancial, distribution, promo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ducts/services/technology required to be purchased outside comp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5-22T02:43:47Z</dcterms:modified>
  <cp:revision>2</cp:revision>
  <dc:subject/>
  <dc:title>PowerPoint Presentation</dc:title>
</cp:coreProperties>
</file>